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34513"/>
        <c:axId val="96613980"/>
      </c:barChart>
      <c:catAx>
        <c:axId val="52345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13980"/>
        <c:crosses val="autoZero"/>
        <c:auto val="1"/>
        <c:lblAlgn val="ctr"/>
        <c:lblOffset val="100"/>
        <c:noMultiLvlLbl val="0"/>
      </c:catAx>
      <c:valAx>
        <c:axId val="966139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45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B19E-A9E1-4A00-A39A-277C58B9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D101-36CF-4C10-897C-1F2E035C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8F95-D75C-495A-B5A4-4A9AF8655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D290-29A8-463F-B6C9-8F9B2E66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83D9-0DE9-4658-B5AE-BAB5EF42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0DC5-C403-4E3E-B1E8-46FEC7BA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652B-2B2B-41A0-B674-BA7E3A24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4298-B58C-4946-8F3C-B22CE2C3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BAC8-B616-4D2C-A67D-5E47D37F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57F4-EC82-41A5-A9E5-D7464247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3A57-BF6A-4516-B842-63556E21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A4B5-5615-4C08-B4D6-F1C48D31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8827B-B395-41A1-90ED-5F76E32CC7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